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E841-27A1-4ADD-8527-A36480E7E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5FD2-05D0-4053-90D6-052B6B85B0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6C80-AD9C-4AE7-87DA-E390143744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D404-8555-4CEB-9F6A-91D4DDF1B2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DF4E-38D3-4069-91AD-B7D9AC9E58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9D01-DF0A-4EAB-85B7-ED6508EE8A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E254-CCAC-4F2F-AE07-8AAC8A3A73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AB4D-5297-4858-85BC-456AA0EB65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CA69-8C46-4C13-84DA-109ED1C8A7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1CCE-7A1F-41E8-8AA1-A9A432E390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3B97-FFF5-4ADB-81D8-CCC549F06D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81FF-09F0-4166-B866-691F7C752A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3AF0-7A5A-4497-A8D3-E6F8888963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7C55-B2FA-43FA-B2E8-A0456A390D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800-91E2-4F66-AC28-081270DF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344-B068-4BCC-83BC-D583CC72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5FB-8295-4456-90D2-1502EAEF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AEA7-849C-4A26-8FA2-B656BA72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A0FD-DA6E-4DB0-B130-6EA2AC33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88B7-E74C-4631-9016-06C517A0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226F-82EF-4207-B97F-BC1F7D2C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580B-F896-4891-8076-EAA663B5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DB17-2960-49F9-AC05-E44EDD00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F5D4-CF17-4641-B7C8-A37DD404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B8C0-8B82-45F3-8EF2-1A2D79B8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0BAF-9439-4411-BF63-350829CF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50B2-4248-4C2C-901E-004EF902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82B6-B65A-470B-A877-54B64B8E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237E-4263-46E0-BCAE-1D1B3D1A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BB17-1202-477D-BC63-D9A3967E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8D7B-EB93-4AA9-B290-4064A9AF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3450-403C-4F32-A647-36E11EE4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8E81-E87E-4C3B-968A-45C3EB2B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610F-6B89-4324-A64A-D2646319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398A-C0C5-4F27-8666-A3880F7A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C9E-6C96-4603-A3F6-17FAA664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563-85D7-49D0-BB86-58354FBA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3A7-3090-486B-B444-9D1F6835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6B65-D9BA-481F-BDCB-04A6A9B3A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8046-8A3D-4354-B6F6-2B1C4D90F1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16048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Fair Trade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02920" y="326088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deal for third-world produc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quality for consum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me interesting fact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Kenya capital town Nairobi supermarkets is available  an Irish butter for lower price, then their ow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bsidies for one cow in EU are equal to two year wages of average agrarian in countries of Third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1,75 Pounds paid for cappuccino in London café, the farmer in Columbia get about 0,05 P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What is Fair Trade abou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0071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the 2005 FTF Trends Report, alternative traders who are members of the Fair Trade Federation commit to advancing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rtunities for economically disadvantaged produc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der equ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arency and accountabil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ty buil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yment of a fair pri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y working cond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 sustainabil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ion of Fair Trade princip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www.fairtraderesources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orld Fair Trade D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13th – International Fair Trade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wftd2006-logo,190x280h"/>
          <p:cNvPicPr/>
          <p:nvPr/>
        </p:nvPicPr>
        <p:blipFill>
          <a:blip r:embed="rId1"/>
          <a:stretch/>
        </p:blipFill>
        <p:spPr>
          <a:xfrm>
            <a:off x="3132000" y="2565360"/>
            <a:ext cx="3295800" cy="39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ftf_logo"/>
          <p:cNvPicPr/>
          <p:nvPr/>
        </p:nvPicPr>
        <p:blipFill>
          <a:blip r:embed="rId2"/>
          <a:stretch/>
        </p:blipFill>
        <p:spPr>
          <a:xfrm>
            <a:off x="6659640" y="5084640"/>
            <a:ext cx="1428840" cy="1381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transfair_logo"/>
          <p:cNvPicPr/>
          <p:nvPr/>
        </p:nvPicPr>
        <p:blipFill>
          <a:blip r:embed="rId3"/>
          <a:stretch/>
        </p:blipFill>
        <p:spPr>
          <a:xfrm>
            <a:off x="7451640" y="2781360"/>
            <a:ext cx="1428840" cy="1952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mediumftomark"/>
          <p:cNvPicPr/>
          <p:nvPr/>
        </p:nvPicPr>
        <p:blipFill>
          <a:blip r:embed="rId4"/>
          <a:stretch/>
        </p:blipFill>
        <p:spPr>
          <a:xfrm>
            <a:off x="1258920" y="4795920"/>
            <a:ext cx="13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fairtradelogo"/>
          <p:cNvPicPr/>
          <p:nvPr/>
        </p:nvPicPr>
        <p:blipFill>
          <a:blip r:embed="rId5"/>
          <a:stretch/>
        </p:blipFill>
        <p:spPr>
          <a:xfrm>
            <a:off x="468360" y="2781360"/>
            <a:ext cx="1270080" cy="148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nks for further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ad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fairtrade.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fairtraderesources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jedensvet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.wikipedia.org/wiki/Fair_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ank you, have 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i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ay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rodu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4724280"/>
            <a:ext cx="8007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0% of world‘s cocoa in small fa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 farmers have never tasted a single chocolate bar in their liv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300x193_chocolate"/>
          <p:cNvPicPr/>
          <p:nvPr/>
        </p:nvPicPr>
        <p:blipFill>
          <a:blip r:embed="rId1"/>
          <a:stretch/>
        </p:blipFill>
        <p:spPr>
          <a:xfrm>
            <a:off x="1619280" y="1484280"/>
            <a:ext cx="561672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rge companies don‘t help muc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ers are forced to sell their goods for very low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ve no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s to bribery and organized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to break the cycl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ir Tra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general term for an idea of ethical and rational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ir Tra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eans up relationships between producer and consu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ir Tra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no charity – it just provides producers with appropriate w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ir Tra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ans top quality food and goods from known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air Tra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one can contribute to improve living conditions of actual produ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 imp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r trade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logi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r trade eatables are BIO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laves, no children forced to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Fair trade goo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ange of fair trade products, including crafts, fashions, foods (such as chocolate, honey, bananas and other fruit), beverages (tea, coffee, fruit juice), paper and cards are avail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s are sold through an extensive network of small retailers and many big supermarkets have a token few products available for purch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l-order companies exist all over the world, from small specialist grocers to new on-line suppli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also check out the legendary Starbucks for a token sample of fair trade coffe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BC N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nomic vie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 business transaction is a challenge to see that both parties come out fairly.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dam Smit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The Theory of Moral Sentiments (175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ee trade and market fail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international trade with agriculture product really fre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bout price of goods on this mark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ation of situation in agriculture between developing coutries and those developed ( especially EU, USA or Jap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it possible that Fair Trade could improve the world „free“ mark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09:20:06Z</dcterms:created>
  <dc:creator>Pavel Kasík</dc:creator>
  <dc:description/>
  <dc:language>en-US</dc:language>
  <cp:lastModifiedBy>master</cp:lastModifiedBy>
  <dcterms:modified xsi:type="dcterms:W3CDTF">2009-02-26T20:43:00Z</dcterms:modified>
  <cp:revision>14</cp:revision>
  <dc:subject/>
  <dc:title>Fair Trade</dc:title>
</cp:coreProperties>
</file>